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WHOOSH.WAV" ContentType="audio/x-wav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9.jpeg" ContentType="image/jpeg"/>
  <Override PartName="/ppt/media/CAMERA.WAV" ContentType="audio/x-wav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6A0B-A3C0-4EA8-99B1-D4B46EB68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fast and efficient over short distances, but slow and inefficient as the cell becomes l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A mitochondrion at the center of a cell with a diameter of 20 cm would have to wait months before receiving molecules that ente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cell’s size is doubled, the cell would require 8X more waste to excrete, but the surface area would only increase by a factor of 4.  The plasma membrane would not have enough surface area through which the nutrients and waste could dif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362-C9DC-450B-BE89-E68F4A07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287-633D-4F1E-A33F-5C05F913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8C9-178D-4E76-85D8-DFAE9288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4B3-2045-4BEB-B379-BA0F9B80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28EC-FDA4-450F-AB59-CCB73648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AFC6-35DD-4A2D-9665-107D46F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8F63-113F-46AA-A9F4-BC46287F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61C-F2A2-4387-918D-A71AEF3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7FC1-5DCB-4628-8CD3-13A80DA9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996-84DC-4AB5-8275-C9B95198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A57E-04DD-40E2-AD1E-F24767C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B51-F566-4523-8494-CB2C576D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8B7A-C0E5-4D92-85BF-AF60F60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EE40-5054-4142-B7A4-49C199F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88F6-EAA9-46C1-9D3B-47A3F7B5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82BE-0C66-412B-8E4E-C150F2FE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A84-01EF-46A1-AE11-1FEDF671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204-1778-430A-8107-7D85766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6B2-E507-4988-9967-FF5CB2B5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6CF-C6A6-4AF1-AE3B-AAC4062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0DF-827C-44F7-8DE2-EF0E2772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173-ED14-493E-94C5-1AFA4F2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73D-36AB-4BCF-84FD-C40691B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1D6-D2EF-4485-B83A-3F82A4B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B2D-9FC2-40E4-A735-396192C955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451-7BCD-428D-92A9-2EB74EB5D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iknow.net/mov/cellcyclemov.shtm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ellular Basis of Inheritanc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NA wraps around a histone core to form bead like structures known as nucle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ccurs during pro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nes – proteins that help DNA c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162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599000" cy="4876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osomes coil even m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ils become the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mallest to most coiled is the follow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hel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and histone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 c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entrome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72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half of a replicated chromosome is called a </a:t>
            </a:r>
            <a:r>
              <a:rPr b="0" lang="en-US" sz="2400" spc="-1" strike="noStrike">
                <a:solidFill>
                  <a:srgbClr val="6d6fc7"/>
                </a:solidFill>
                <a:latin typeface="Arial"/>
              </a:rPr>
              <a:t>chroma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r chromatids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 identical halves of the double structure are sister chromatid; exact copies of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om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te where sister chromatids are adjo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19720" y="2362320"/>
            <a:ext cx="4495680" cy="2971800"/>
            <a:chOff x="4419720" y="2362320"/>
            <a:chExt cx="4495680" cy="297180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rcRect l="0" t="0" r="0" b="7134"/>
            <a:stretch/>
          </p:blipFill>
          <p:spPr>
            <a:xfrm>
              <a:off x="4419720" y="2362320"/>
              <a:ext cx="4495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419720" y="2362320"/>
              <a:ext cx="449568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or chromatid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4876560"/>
            <a:ext cx="377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hromat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57240" y="457164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hromosome (doubl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hromatids (sisterchromat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41667" t="7691" r="15487" b="0"/>
          <a:stretch/>
        </p:blipFill>
        <p:spPr>
          <a:xfrm>
            <a:off x="1447920" y="2286000"/>
            <a:ext cx="650880" cy="25178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666880" y="2514600"/>
            <a:ext cx="1524240" cy="457200"/>
            <a:chOff x="2666880" y="2514600"/>
            <a:chExt cx="1524240" cy="457200"/>
          </a:xfrm>
        </p:grpSpPr>
        <p:sp>
          <p:nvSpPr>
            <p:cNvPr id="146" name=""/>
            <p:cNvSpPr/>
            <p:nvPr/>
          </p:nvSpPr>
          <p:spPr>
            <a:xfrm>
              <a:off x="2666880" y="297180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2514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pl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33920" y="1295280"/>
            <a:ext cx="4799880" cy="3200040"/>
            <a:chOff x="3733920" y="1295280"/>
            <a:chExt cx="4799880" cy="320004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rcRect l="0" t="23082" r="0" b="0"/>
            <a:stretch/>
          </p:blipFill>
          <p:spPr>
            <a:xfrm>
              <a:off x="4452120" y="2138040"/>
              <a:ext cx="408168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733920" y="1295280"/>
              <a:ext cx="15580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itosis and Meio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nd Why Cells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Onion roo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57320" y="1523880"/>
            <a:ext cx="4595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419720" y="1600200"/>
            <a:ext cx="4419360" cy="4210200"/>
            <a:chOff x="4419720" y="1600200"/>
            <a:chExt cx="4419360" cy="421020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rcRect l="0" t="-445" r="43644" b="0"/>
            <a:stretch/>
          </p:blipFill>
          <p:spPr>
            <a:xfrm>
              <a:off x="4419720" y="1600200"/>
              <a:ext cx="441936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4419720" y="1600200"/>
              <a:ext cx="4419360" cy="4210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ter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77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ase= Growth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hase = synthesis phase – make copy of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– Growth and cell maintenance for preparation of division occu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 example copying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0" t="-445" r="43644" b="0"/>
          <a:stretch/>
        </p:blipFill>
        <p:spPr>
          <a:xfrm>
            <a:off x="4419720" y="1600200"/>
            <a:ext cx="4419360" cy="4210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ter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72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 replication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aintenance occu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rete wa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new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00400" y="2117880"/>
            <a:ext cx="5715000" cy="4740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ils up into visible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ells come from other cell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exual Rep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i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gin to migrate to opposite sides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 begins to dissappear as nuclear envelope and nucleolus disinteg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67080" y="1998720"/>
            <a:ext cx="4876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743200" y="2106720"/>
            <a:ext cx="6400800" cy="4505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phase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dle fi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form between centri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d attach to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2300400"/>
            <a:ext cx="4343400" cy="4217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eta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7720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osomes line up at the center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ong the equato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hortest ph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atids split and one is pulled to each of the poles; centromer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hromatid is iden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opy of each chromosome goes to each side (po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16400" y="2286000"/>
            <a:ext cx="3525840" cy="3962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62720" y="2286000"/>
            <a:ext cx="2666880" cy="3505320"/>
          </a:xfrm>
          <a:custGeom>
            <a:avLst/>
            <a:gdLst/>
            <a:ahLst/>
            <a:rect l="l" t="t" r="r" b="b"/>
            <a:pathLst>
              <a:path w="1680" h="2208">
                <a:moveTo>
                  <a:pt x="144" y="0"/>
                </a:moveTo>
                <a:lnTo>
                  <a:pt x="1632" y="144"/>
                </a:lnTo>
                <a:lnTo>
                  <a:pt x="1680" y="2208"/>
                </a:lnTo>
                <a:lnTo>
                  <a:pt x="0" y="2112"/>
                </a:lnTo>
                <a:lnTo>
                  <a:pt x="144" y="0"/>
                </a:lnTo>
                <a:close/>
              </a:path>
            </a:pathLst>
          </a:custGeom>
          <a:noFill/>
          <a:ln w="57240">
            <a:solidFill>
              <a:srgbClr val="005e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elo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72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phase of mit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matids reach opposite ends of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site events of pro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s unwind into chroma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dle breaks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clear envelope forms around 2 new sets of chromosomes (to create 2 new nucle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cleolus forms in each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kinesis begins (before telophase is finish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22960" y="2286000"/>
            <a:ext cx="3409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nd of Mito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i go back into inter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kinesis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0" t="0" r="0" b="29172"/>
          <a:stretch/>
        </p:blipFill>
        <p:spPr>
          <a:xfrm>
            <a:off x="1066680" y="2590920"/>
            <a:ext cx="6553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ytokinesi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Cleavage Furr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rane pinches off and half of the cell contents go to each new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ug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t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Cell P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plants have a rigid cell wall, the plasma membrane does not pinch in; a cell plate forms across the equ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0" b="5261"/>
          <a:stretch/>
        </p:blipFill>
        <p:spPr>
          <a:xfrm>
            <a:off x="7459560" y="4572000"/>
            <a:ext cx="1684440" cy="19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rcRect l="0" t="0" r="0" b="5179"/>
          <a:stretch/>
        </p:blipFill>
        <p:spPr>
          <a:xfrm>
            <a:off x="5257800" y="4419720"/>
            <a:ext cx="221940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rcRect l="0" t="0" r="48840" b="7580"/>
          <a:stretch/>
        </p:blipFill>
        <p:spPr>
          <a:xfrm>
            <a:off x="6019920" y="304920"/>
            <a:ext cx="2363760" cy="3657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rcRect l="58140" t="12634" r="4650" b="45477"/>
          <a:stretch/>
        </p:blipFill>
        <p:spPr>
          <a:xfrm>
            <a:off x="3809880" y="4191120"/>
            <a:ext cx="13669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en do cells divide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of a multicellular organism - due to increase in # of cells, not size of cell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ing things grow by producing more cells, not cells getting bigger same size now as baby, size or organism depends on number of 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ll division enables multicellular organisims to grow and develop from a single fertilized egg – one single cell can divide to form a multicellular hum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lls can grow a little bit ex fat cells don’t divide once reach puberty –but can grow much lar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ven if not growing in size still produce new cells to replace 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l division even when fully grown to renew and repair cells or replace old  that die of wear and tear or accidents ex bone marrow supplys new blood ce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Red blood cells only live 120 days 2.5 million new must be made/second?, but must be controlled growth (or canc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Cells that line the digestive system organs – go through entire cell cycle in 6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exual Reproduc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Material comes from 2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exual Reproduc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Material comes from 1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9880" y="3733920"/>
            <a:ext cx="685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733920"/>
            <a:ext cx="685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962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Binary Fission (Prokaryotes way of Asexual Reproduction)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division in prokaryotes produce 2 identical daughter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124080"/>
            <a:ext cx="114300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58128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05520" y="5029200"/>
            <a:ext cx="1143000" cy="609480"/>
            <a:chOff x="5105520" y="5029200"/>
            <a:chExt cx="1143000" cy="609480"/>
          </a:xfrm>
        </p:grpSpPr>
        <p:sp>
          <p:nvSpPr>
            <p:cNvPr id="106" name=""/>
            <p:cNvSpPr/>
            <p:nvPr/>
          </p:nvSpPr>
          <p:spPr>
            <a:xfrm>
              <a:off x="5105520" y="5029200"/>
              <a:ext cx="1143000" cy="6094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5181480"/>
              <a:ext cx="152280" cy="152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00800" y="5029200"/>
            <a:ext cx="1143000" cy="609480"/>
            <a:chOff x="6400800" y="5029200"/>
            <a:chExt cx="1143000" cy="609480"/>
          </a:xfrm>
        </p:grpSpPr>
        <p:sp>
          <p:nvSpPr>
            <p:cNvPr id="109" name=""/>
            <p:cNvSpPr/>
            <p:nvPr/>
          </p:nvSpPr>
          <p:spPr>
            <a:xfrm>
              <a:off x="6400800" y="5029200"/>
              <a:ext cx="1143000" cy="6094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0" y="5181480"/>
              <a:ext cx="152280" cy="152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638680" y="44956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4114800"/>
            <a:ext cx="304920" cy="152280"/>
            <a:chOff x="4267080" y="4114800"/>
            <a:chExt cx="304920" cy="152280"/>
          </a:xfrm>
        </p:grpSpPr>
        <p:sp>
          <p:nvSpPr>
            <p:cNvPr id="113" name=""/>
            <p:cNvSpPr/>
            <p:nvPr/>
          </p:nvSpPr>
          <p:spPr>
            <a:xfrm>
              <a:off x="4419720" y="4114800"/>
              <a:ext cx="152280" cy="15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080" y="4114800"/>
              <a:ext cx="152640" cy="15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Cell Cycl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377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of growth and division of a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hase = period of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sis = period of nuclear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kinesis = period of cell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43680" y="2577960"/>
            <a:ext cx="3771720" cy="3378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7220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Cell Cycle Mov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Limits on Cell Siz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 – becomes slow and inefficient as the cell becomes 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Area/Volume Ratio – as a cell increases, its volume increases faster than its surfa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content – if a cell doesn’t have enough DNA to program its metabolism, it cannot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6560" y="10663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Uncondensed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tic material spends most of its time as chrom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rophase, the chromatin material coils up and condenses to become a </a:t>
            </a: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hromos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oiled form of D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72428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18960" y="2285640"/>
            <a:ext cx="3771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572000" cy="4445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osomes -condensed rod shaped structures made of coiled DNA, (only seen in mitosis ph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4:20:43Z</dcterms:created>
  <dc:creator>Tricia</dc:creator>
  <dc:description/>
  <cp:keywords/>
  <dc:language>en-US</dc:language>
  <cp:lastModifiedBy>Tricia</cp:lastModifiedBy>
  <dcterms:modified xsi:type="dcterms:W3CDTF">2007-01-25T14:13:06Z</dcterms:modified>
  <cp:revision>3</cp:revision>
  <dc:subject/>
  <dc:title>Cellular Basis of 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